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5E3B3-6E07-40DE-B3DF-1434BBC6D7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922CB-0B4E-4687-8C96-562FD315703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1543F-3AB1-4113-86B0-349733EB854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111CC-F434-4267-8732-A0E3651BC1E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FB44A-1AB3-4CA5-9E10-A913C2B24D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1C211-1AC0-47DE-B9A8-B56C880FA5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3D8A-56BC-4060-A3B6-340C5F504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FF4B-E231-4CD3-BBE4-754BB59BD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3074-CC32-4992-B655-9E4EC17FE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532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532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FF49-6245-48F1-8A25-169C2D1884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AE20-8E60-41E1-A4A3-AD6B7D2782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2785-FEEC-4081-87A8-98DEFE0DA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087D-3FA5-4FD1-BD74-3AA9CB8BD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5074-163B-4BE7-A0FD-F1E070B3D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3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988D-8AAC-43B6-940C-70E3AB270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3505-5A62-4392-8CF4-DEAC45734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F238-4280-4CF6-BF40-FCBE42E0C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9FC7-5197-46ED-9551-ADDDFE185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5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57D38A-B4F7-45A5-9B08-5938585A2E4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55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unción de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7"/>
            <p:cNvSpPr/>
            <p:nvPr/>
          </p:nvSpPr>
          <p:spPr>
            <a:xfrm>
              <a:off x="1828800" y="2666880"/>
              <a:ext cx="5697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ASÍ TOMAN OXÍGENO DEL AIRE ALGUNO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6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Text Box 4"/>
            <p:cNvSpPr/>
            <p:nvPr/>
          </p:nvSpPr>
          <p:spPr>
            <a:xfrm>
              <a:off x="984240" y="90360"/>
              <a:ext cx="7331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29 Grupo"/>
          <p:cNvGrpSpPr/>
          <p:nvPr/>
        </p:nvGrpSpPr>
        <p:grpSpPr>
          <a:xfrm>
            <a:off x="3492360" y="1268280"/>
            <a:ext cx="2087640" cy="1081080"/>
            <a:chOff x="3492360" y="1268280"/>
            <a:chExt cx="2087640" cy="1081080"/>
          </a:xfrm>
        </p:grpSpPr>
        <p:sp>
          <p:nvSpPr>
            <p:cNvPr id="68" name="AutoShape 7"/>
            <p:cNvSpPr/>
            <p:nvPr/>
          </p:nvSpPr>
          <p:spPr>
            <a:xfrm>
              <a:off x="3492360" y="1268280"/>
              <a:ext cx="2087640" cy="1081080"/>
            </a:xfrm>
            <a:prstGeom prst="roundRect">
              <a:avLst>
                <a:gd name="adj" fmla="val 16667"/>
              </a:avLst>
            </a:prstGeom>
            <a:solidFill>
              <a:srgbClr val="9ed3d7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Text Box 14"/>
            <p:cNvSpPr/>
            <p:nvPr/>
          </p:nvSpPr>
          <p:spPr>
            <a:xfrm>
              <a:off x="3563640" y="1483920"/>
              <a:ext cx="194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RESPIR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EN EL AI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30 Grupo"/>
          <p:cNvGrpSpPr/>
          <p:nvPr/>
        </p:nvGrpSpPr>
        <p:grpSpPr>
          <a:xfrm>
            <a:off x="900000" y="4221000"/>
            <a:ext cx="2087640" cy="1079640"/>
            <a:chOff x="900000" y="4221000"/>
            <a:chExt cx="2087640" cy="1079640"/>
          </a:xfrm>
        </p:grpSpPr>
        <p:sp>
          <p:nvSpPr>
            <p:cNvPr id="71" name="AutoShape 9"/>
            <p:cNvSpPr/>
            <p:nvPr/>
          </p:nvSpPr>
          <p:spPr>
            <a:xfrm>
              <a:off x="900000" y="4221000"/>
              <a:ext cx="2087640" cy="1079640"/>
            </a:xfrm>
            <a:prstGeom prst="roundRect">
              <a:avLst>
                <a:gd name="adj" fmla="val 16667"/>
              </a:avLst>
            </a:prstGeom>
            <a:solidFill>
              <a:srgbClr val="9ed3d7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Text Box 15"/>
            <p:cNvSpPr/>
            <p:nvPr/>
          </p:nvSpPr>
          <p:spPr>
            <a:xfrm>
              <a:off x="971280" y="4438440"/>
              <a:ext cx="194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MEDIANTE TRÁQUE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31 Grupo"/>
          <p:cNvGrpSpPr/>
          <p:nvPr/>
        </p:nvGrpSpPr>
        <p:grpSpPr>
          <a:xfrm>
            <a:off x="6084720" y="4221000"/>
            <a:ext cx="2087640" cy="1079640"/>
            <a:chOff x="6084720" y="4221000"/>
            <a:chExt cx="2087640" cy="1079640"/>
          </a:xfrm>
        </p:grpSpPr>
        <p:sp>
          <p:nvSpPr>
            <p:cNvPr id="74" name="AutoShape 8"/>
            <p:cNvSpPr/>
            <p:nvPr/>
          </p:nvSpPr>
          <p:spPr>
            <a:xfrm>
              <a:off x="6084720" y="4221000"/>
              <a:ext cx="2087640" cy="1079640"/>
            </a:xfrm>
            <a:prstGeom prst="roundRect">
              <a:avLst>
                <a:gd name="adj" fmla="val 16667"/>
              </a:avLst>
            </a:prstGeom>
            <a:solidFill>
              <a:srgbClr val="9ed3d7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16"/>
            <p:cNvSpPr/>
            <p:nvPr/>
          </p:nvSpPr>
          <p:spPr>
            <a:xfrm>
              <a:off x="6156000" y="4438440"/>
              <a:ext cx="194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MEDIANTE PULMO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AutoShape 19"/>
          <p:cNvSpPr/>
          <p:nvPr/>
        </p:nvSpPr>
        <p:spPr>
          <a:xfrm>
            <a:off x="3348000" y="2852640"/>
            <a:ext cx="2376360" cy="43200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3059280" y="5516640"/>
            <a:ext cx="33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000099"/>
                </a:solidFill>
                <a:latin typeface="Arial"/>
              </a:rPr>
              <a:t>Así toman el oxígeno del aire algunos animal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32 Grupo"/>
          <p:cNvGrpSpPr/>
          <p:nvPr/>
        </p:nvGrpSpPr>
        <p:grpSpPr>
          <a:xfrm>
            <a:off x="1908000" y="2349360"/>
            <a:ext cx="5257800" cy="1876680"/>
            <a:chOff x="1908000" y="2349360"/>
            <a:chExt cx="5257800" cy="1876680"/>
          </a:xfrm>
        </p:grpSpPr>
        <p:sp>
          <p:nvSpPr>
            <p:cNvPr id="80" name="Freeform 10"/>
            <p:cNvSpPr/>
            <p:nvPr/>
          </p:nvSpPr>
          <p:spPr>
            <a:xfrm>
              <a:off x="1908000" y="3932640"/>
              <a:ext cx="5256360" cy="1440"/>
            </a:xfrm>
            <a:custGeom>
              <a:avLst/>
              <a:gdLst>
                <a:gd name="textAreaLeft" fmla="*/ 0 w 5256360"/>
                <a:gd name="textAreaRight" fmla="*/ 5256720 w 5256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4602" h="5">
                  <a:moveTo>
                    <a:pt x="0" y="0"/>
                  </a:moveTo>
                  <a:lnTo>
                    <a:pt x="14601" y="4"/>
                  </a:lnTo>
                </a:path>
              </a:pathLst>
            </a:cu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11"/>
            <p:cNvSpPr/>
            <p:nvPr/>
          </p:nvSpPr>
          <p:spPr>
            <a:xfrm>
              <a:off x="1908000" y="3927600"/>
              <a:ext cx="1440" cy="29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6" h="830">
                  <a:moveTo>
                    <a:pt x="0" y="829"/>
                  </a:moveTo>
                  <a:lnTo>
                    <a:pt x="5" y="0"/>
                  </a:lnTo>
                </a:path>
              </a:pathLst>
            </a:cu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2"/>
            <p:cNvSpPr/>
            <p:nvPr/>
          </p:nvSpPr>
          <p:spPr>
            <a:xfrm>
              <a:off x="7164360" y="3927600"/>
              <a:ext cx="1440" cy="29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" h="830">
                  <a:moveTo>
                    <a:pt x="0" y="829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Text Box 20"/>
            <p:cNvSpPr/>
            <p:nvPr/>
          </p:nvSpPr>
          <p:spPr>
            <a:xfrm>
              <a:off x="3419280" y="28530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Se realiz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24 Conector recto"/>
            <p:cNvSpPr/>
            <p:nvPr/>
          </p:nvSpPr>
          <p:spPr>
            <a:xfrm>
              <a:off x="4499640" y="2349360"/>
              <a:ext cx="0" cy="50400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28 Conector recto"/>
            <p:cNvSpPr/>
            <p:nvPr/>
          </p:nvSpPr>
          <p:spPr>
            <a:xfrm>
              <a:off x="4499640" y="3213360"/>
              <a:ext cx="0" cy="72000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419640" y="2781360"/>
            <a:ext cx="2747880" cy="352404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88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5"/>
            <p:cNvSpPr/>
            <p:nvPr/>
          </p:nvSpPr>
          <p:spPr>
            <a:xfrm>
              <a:off x="984240" y="90360"/>
              <a:ext cx="7331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2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8"/>
          <p:cNvSpPr/>
          <p:nvPr/>
        </p:nvSpPr>
        <p:spPr>
          <a:xfrm>
            <a:off x="971640" y="1419120"/>
            <a:ext cx="7272360" cy="14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da en casi todos los insec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trata de finos tubos que se ramifican llegando a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teji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abren al exterior por unos poros llamados espirácul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971640" y="836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Respiración mediante traqu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AutoShape 10"/>
          <p:cNvSpPr/>
          <p:nvPr/>
        </p:nvSpPr>
        <p:spPr>
          <a:xfrm rot="10800000">
            <a:off x="6011640" y="4158720"/>
            <a:ext cx="431640" cy="142920"/>
          </a:xfrm>
          <a:prstGeom prst="rightArrow">
            <a:avLst>
              <a:gd name="adj1" fmla="val 50000"/>
              <a:gd name="adj2" fmla="val 5033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11"/>
          <p:cNvSpPr/>
          <p:nvPr/>
        </p:nvSpPr>
        <p:spPr>
          <a:xfrm flipV="1">
            <a:off x="6012000" y="3928320"/>
            <a:ext cx="431640" cy="142920"/>
          </a:xfrm>
          <a:prstGeom prst="rightArrow">
            <a:avLst>
              <a:gd name="adj1" fmla="val 50000"/>
              <a:gd name="adj2" fmla="val 5033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644364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Arial"/>
              </a:rPr>
              <a:t>CO</a:t>
            </a:r>
            <a:r>
              <a:rPr b="1" lang="es-ES" sz="10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443640" y="4067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1" lang="es-ES" sz="1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5796000" y="29242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pirácul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292720" y="32130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ráqu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16360" y="299736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ejidos del insec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6156360" y="45608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xoesquele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1114560" y="522936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Respiración mediante tráqueas en un insec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19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000099"/>
                </a:solidFill>
                <a:latin typeface="Arial"/>
              </a:rPr>
              <a:t>Así toman el oxígeno del aire algunos animal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22"/>
          <p:cNvSpPr/>
          <p:nvPr/>
        </p:nvSpPr>
        <p:spPr>
          <a:xfrm>
            <a:off x="3722760" y="3319560"/>
            <a:ext cx="831600" cy="26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23"/>
          <p:cNvSpPr/>
          <p:nvPr/>
        </p:nvSpPr>
        <p:spPr>
          <a:xfrm flipH="1">
            <a:off x="5373720" y="3465360"/>
            <a:ext cx="21888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24"/>
          <p:cNvSpPr/>
          <p:nvPr/>
        </p:nvSpPr>
        <p:spPr>
          <a:xfrm flipH="1">
            <a:off x="5784840" y="3236760"/>
            <a:ext cx="603360" cy="86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25"/>
          <p:cNvSpPr/>
          <p:nvPr/>
        </p:nvSpPr>
        <p:spPr>
          <a:xfrm flipH="1" flipV="1">
            <a:off x="5673240" y="4274640"/>
            <a:ext cx="49860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4859280" y="3419640"/>
            <a:ext cx="2700360" cy="3066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2260440" y="3716280"/>
            <a:ext cx="2311560" cy="24494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14" name="AutoShape 4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5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6"/>
            <p:cNvSpPr/>
            <p:nvPr/>
          </p:nvSpPr>
          <p:spPr>
            <a:xfrm>
              <a:off x="984240" y="90360"/>
              <a:ext cx="7331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7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" name="Picture 8" descr=""/>
            <p:cNvPicPr/>
            <p:nvPr/>
          </p:nvPicPr>
          <p:blipFill>
            <a:blip r:embed="rId3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9"/>
          <p:cNvSpPr/>
          <p:nvPr/>
        </p:nvSpPr>
        <p:spPr>
          <a:xfrm>
            <a:off x="755640" y="1341360"/>
            <a:ext cx="727236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propios de anfibios, reptiles, aves y mamífe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án formados por millones de diminutos tubitos o cavidades llamados alveolos, llenos de capilares, donde se realiza el intercambio gaseo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ulmones se comunican con el exterior por las vías respiratorias (Faringe, tráquea, bronquios, bronquiolos.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900000" y="765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Respiración mediante pulm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2556000" y="342900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c00000"/>
                </a:solidFill>
                <a:latin typeface="Arial"/>
              </a:rPr>
              <a:t>Sangre rica en O</a:t>
            </a:r>
            <a:r>
              <a:rPr b="1" lang="es-ES" sz="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3419640" y="335772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Sangre rica en CO</a:t>
            </a:r>
            <a:r>
              <a:rPr b="1" lang="es-ES" sz="8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2411280" y="3913200"/>
            <a:ext cx="5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1" lang="es-ES" sz="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2124000" y="4076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CO</a:t>
            </a:r>
            <a:r>
              <a:rPr b="1" lang="es-ES" sz="8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501480" y="5445000"/>
            <a:ext cx="212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Respiración mediante pulmones de un mamíf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18"/>
          <p:cNvSpPr/>
          <p:nvPr/>
        </p:nvSpPr>
        <p:spPr>
          <a:xfrm>
            <a:off x="6931080" y="4051440"/>
            <a:ext cx="164880" cy="172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Freeform 19"/>
          <p:cNvSpPr/>
          <p:nvPr/>
        </p:nvSpPr>
        <p:spPr>
          <a:xfrm>
            <a:off x="4210200" y="4160880"/>
            <a:ext cx="2725560" cy="61272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w="7572" h="1703">
                <a:moveTo>
                  <a:pt x="7571" y="0"/>
                </a:moveTo>
                <a:lnTo>
                  <a:pt x="0" y="170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6659640" y="5219640"/>
            <a:ext cx="14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ulm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Freeform 21"/>
          <p:cNvSpPr/>
          <p:nvPr/>
        </p:nvSpPr>
        <p:spPr>
          <a:xfrm>
            <a:off x="7032600" y="4906800"/>
            <a:ext cx="173160" cy="374760"/>
          </a:xfrm>
          <a:custGeom>
            <a:avLst/>
            <a:gdLst>
              <a:gd name="textAreaLeft" fmla="*/ 0 w 173160"/>
              <a:gd name="textAreaRight" fmla="*/ 173520 w 1731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482" h="1042">
                <a:moveTo>
                  <a:pt x="0" y="1041"/>
                </a:moveTo>
                <a:lnTo>
                  <a:pt x="4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Freeform 22"/>
          <p:cNvSpPr/>
          <p:nvPr/>
        </p:nvSpPr>
        <p:spPr>
          <a:xfrm>
            <a:off x="6597720" y="4832280"/>
            <a:ext cx="439560" cy="449280"/>
          </a:xfrm>
          <a:custGeom>
            <a:avLst/>
            <a:gdLst>
              <a:gd name="textAreaLeft" fmla="*/ 0 w 439560"/>
              <a:gd name="textAreaRight" fmla="*/ 439920 w 4395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222" h="1249">
                <a:moveTo>
                  <a:pt x="1221" y="124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7020000" y="3419640"/>
            <a:ext cx="143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ías respiratori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Freeform 24"/>
          <p:cNvSpPr/>
          <p:nvPr/>
        </p:nvSpPr>
        <p:spPr>
          <a:xfrm>
            <a:off x="6835680" y="3666960"/>
            <a:ext cx="247680" cy="113040"/>
          </a:xfrm>
          <a:custGeom>
            <a:avLst/>
            <a:gdLst>
              <a:gd name="textAreaLeft" fmla="*/ 0 w 247680"/>
              <a:gd name="textAreaRight" fmla="*/ 248040 w 247680"/>
              <a:gd name="textAreaTop" fmla="*/ 0 h 113040"/>
              <a:gd name="textAreaBottom" fmla="*/ 113400 h 113040"/>
            </a:gdLst>
            <a:ahLst/>
            <a:rect l="textAreaLeft" t="textAreaTop" r="textAreaRight" b="textAreaBottom"/>
            <a:pathLst>
              <a:path w="689" h="315">
                <a:moveTo>
                  <a:pt x="688" y="0"/>
                </a:moveTo>
                <a:lnTo>
                  <a:pt x="0" y="31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000099"/>
                </a:solidFill>
                <a:latin typeface="Arial"/>
              </a:rPr>
              <a:t>Así toman el oxígeno del aire algunos animal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 luis</cp:lastModifiedBy>
  <dcterms:modified xsi:type="dcterms:W3CDTF">2012-10-04T16:37:19Z</dcterms:modified>
  <cp:revision>6</cp:revision>
  <dc:subject/>
  <dc:title>Presentación de PowerPoint</dc:title>
</cp:coreProperties>
</file>